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87210"/>
        <c:axId val="93427908"/>
      </c:barChart>
      <c:catAx>
        <c:axId val="15587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7908"/>
        <c:crosses val="autoZero"/>
        <c:auto val="1"/>
        <c:lblAlgn val="ctr"/>
        <c:lblOffset val="100"/>
        <c:noMultiLvlLbl val="0"/>
      </c:catAx>
      <c:valAx>
        <c:axId val="93427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7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7A6-3661-410E-8B66-CFD3FB12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DCC-C182-4AF5-9390-B5D0881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550-D9C8-45D6-9341-AF22927F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5A7-2181-4BC1-AC07-DAC43C65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158-243E-4D83-80E5-824120D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589-97C3-4399-94A7-A3979FA6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155-8C49-4168-BA23-750B6B4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949-C111-4947-A73D-0A3238DF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79C-E77E-4166-9D63-CE3BC72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985-5B15-4146-A326-370B118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4EA-8D4B-42FC-80F9-64FE286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347-7738-420F-9392-5AA0532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8FCC-9064-4FD3-8C7B-A5382AC41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