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6350"/>
        <c:axId val="28851910"/>
      </c:barChart>
      <c:catAx>
        <c:axId val="5306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51910"/>
        <c:crosses val="autoZero"/>
        <c:auto val="1"/>
        <c:lblAlgn val="ctr"/>
        <c:lblOffset val="100"/>
        <c:noMultiLvlLbl val="0"/>
      </c:catAx>
      <c:valAx>
        <c:axId val="28851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6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ABE-914E-4F05-BF2F-E4AE9865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73E-AF25-43DA-93A6-83335C0F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CB3-5EBC-405A-A1CB-51800164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C20-2993-4DF4-AD9B-A678739A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FCF-EF1F-434E-A726-D8C65EDA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8E0-AD41-4CF8-B09B-D079063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333-ED71-4B25-B96A-6D24F85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AD2-D8F9-42C2-A23A-3C16A73B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2D4-16BA-4CC6-9929-22418808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9D3-F1B9-4394-BCB3-A523D77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426-4C7A-45B1-99A1-1DD8EA2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C8C-C035-498A-860C-08793786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89A0-69C1-4F75-8FB5-F3DBE3E9B2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