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35869"/>
        <c:axId val="59301445"/>
      </c:barChart>
      <c:catAx>
        <c:axId val="31035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01445"/>
        <c:crosses val="autoZero"/>
        <c:auto val="1"/>
        <c:lblAlgn val="ctr"/>
        <c:lblOffset val="100"/>
        <c:noMultiLvlLbl val="0"/>
      </c:catAx>
      <c:valAx>
        <c:axId val="59301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35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A15-A21E-47A7-8E08-3AFDEF83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DDF-EB7A-487F-B446-FE9A313C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C84-D08E-4438-AA86-FB0729E4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745-3F3E-4406-8D82-8E760C4A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ACC-BBA8-499F-A791-989B5524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BD6-9E4C-4A36-90CE-6BEAB0CC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0BA-F3A5-497E-8737-1C2366BA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894-61F9-4A39-8C3B-783A98EA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12C-E9C5-485A-9D68-399F1250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63F-AB73-4B20-83F7-609B246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625-45FD-4A58-B2C7-EE3DEB4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0D9-93B0-4FCC-8D20-BF824BD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CAB42-4C29-4480-BFA3-69D5734BA2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