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96650"/>
        <c:axId val="66404185"/>
      </c:barChart>
      <c:catAx>
        <c:axId val="31396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4185"/>
        <c:crosses val="autoZero"/>
        <c:auto val="1"/>
        <c:lblAlgn val="ctr"/>
        <c:lblOffset val="100"/>
        <c:noMultiLvlLbl val="0"/>
      </c:catAx>
      <c:valAx>
        <c:axId val="66404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6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CFF-2B11-40A3-8E56-54ED2770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245-40EE-46BA-AE0A-0D1757C2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56A-051F-4FB4-9117-BE55A7D1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514-2736-428E-9CF8-EE2C2428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1FA-AB7A-4A0E-A5D7-F9DF746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37E-600C-4B64-A70E-83AEE4C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8C6-0C86-4A52-8FB5-6043AD60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E8F-F0AD-45DE-A2A8-1878A007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5D3-15B3-462A-BB88-879700B2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3E7-AD8D-4DD0-B806-E30E160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9DB-9B26-47A5-B85E-A735015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5CB-490C-4A5D-99AF-D78B332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13E7-5D05-4469-8351-4B398EBFB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