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81481"/>
        <c:axId val="44182194"/>
      </c:barChart>
      <c:catAx>
        <c:axId val="45981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2194"/>
        <c:crosses val="autoZero"/>
        <c:auto val="1"/>
        <c:lblAlgn val="ctr"/>
        <c:lblOffset val="100"/>
        <c:noMultiLvlLbl val="0"/>
      </c:catAx>
      <c:valAx>
        <c:axId val="44182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81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BA8-B297-4D3B-9AC7-84EF1CD6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5FF-4F0F-480F-835C-2BF6477C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FA2-523E-482F-B8B7-7C8BA04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CAD-8A6C-4301-A243-E73027A7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39C-35E8-4312-93CF-AB1F1C89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582-A83C-467B-8500-E82E7C2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D34-3CA8-4A9E-B5F5-B2E92DE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A21-BBF3-4463-89B3-BD3665C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13B-6585-4F2E-B05B-DF35960B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DEC-E4D3-4AA3-910F-A5BAFCB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19A-5D4B-4A9A-809D-F5B8F1E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8BB-F390-4745-AE64-345B8B29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876F1-3880-4F9D-9E99-24E01A3FE6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