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85028"/>
        <c:axId val="65054598"/>
      </c:barChart>
      <c:catAx>
        <c:axId val="40585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4598"/>
        <c:crosses val="autoZero"/>
        <c:auto val="1"/>
        <c:lblAlgn val="ctr"/>
        <c:lblOffset val="100"/>
        <c:noMultiLvlLbl val="0"/>
      </c:catAx>
      <c:valAx>
        <c:axId val="65054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85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35C-595C-424C-AF10-982BC278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B4E-7804-4B90-973D-622AE005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8D9-B822-433C-864C-1B0FE26D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059-4906-491B-929D-3698D8A9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830-04BB-4F85-99E1-2B74460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0F1-6D53-4026-B0A1-BA95937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55D-7E62-41FE-BABC-4588E804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95D-B8B3-437C-9D87-8373773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844-EC8C-4A4E-B82B-AE0DCF1C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FF7-5CD2-4536-AFAF-80C4561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D32-6D6D-4C85-8C52-22F16E8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8FD-CC35-4D9C-B8F5-C2471C1E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320D-282F-4C78-BC91-6757FFAF0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