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2166"/>
        <c:axId val="34515164"/>
      </c:barChart>
      <c:catAx>
        <c:axId val="17072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5164"/>
        <c:crosses val="autoZero"/>
        <c:auto val="1"/>
        <c:lblAlgn val="ctr"/>
        <c:lblOffset val="100"/>
        <c:noMultiLvlLbl val="0"/>
      </c:catAx>
      <c:valAx>
        <c:axId val="34515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2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3D5-1610-435B-8A71-804442DF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484-ECDB-49DB-A46A-BD6F848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E3A-2121-416E-AD09-9F0472C6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D88-7C5E-44AF-BD67-5558D094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D24-9E4A-40E1-BF5E-7D3BE51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0B6-E1FD-47DF-B160-E1E2AFF5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E11-7CF4-4444-A0B7-6EC8B14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4F4-CFB1-4F80-B141-47E6490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2A0-2048-481A-9A83-5A60F81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4CA-9E1D-4863-B346-71C2817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3DC-C517-4DE8-9ACF-9A2269A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399-2FC0-451B-8CA7-D0A38E9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42ADB-E0EB-4C3C-A54A-1C9E4DF5C4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