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15728"/>
        <c:axId val="82062208"/>
      </c:barChart>
      <c:catAx>
        <c:axId val="83715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2208"/>
        <c:crosses val="autoZero"/>
        <c:auto val="1"/>
        <c:lblAlgn val="ctr"/>
        <c:lblOffset val="100"/>
        <c:noMultiLvlLbl val="0"/>
      </c:catAx>
      <c:valAx>
        <c:axId val="82062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15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5ED-CA2D-4803-A6E3-0B6293A7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AE4-281D-44B9-9982-AB5AF335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AC5-EAB6-4572-AF15-5338B125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D1F-6A29-4E7A-B2A9-4ECBC850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301-5EE0-4BB7-AA00-ACBFB54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BD4-F3E1-4D8D-8FEC-57F57F3E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D7B-7ACF-481F-A56C-5739E0F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222-2820-420C-8EC0-5D14C98B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0BC-DA74-4822-9A15-AC69D11F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CE4-5F4E-46F3-925F-974E2A7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A5C-07B3-45F8-A785-24B1800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481-4C60-4D12-A2D1-4C31EC7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956A6-5FC2-4315-827D-6897F6479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