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071545"/>
        <c:axId val="40019595"/>
      </c:barChart>
      <c:catAx>
        <c:axId val="140715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019595"/>
        <c:crosses val="autoZero"/>
        <c:auto val="1"/>
        <c:lblAlgn val="ctr"/>
        <c:lblOffset val="100"/>
        <c:noMultiLvlLbl val="0"/>
      </c:catAx>
      <c:valAx>
        <c:axId val="400195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0715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8757-BA6D-4F3A-9ADE-53EA2BE5D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42AE-5F03-4F4B-BFD5-E113A97DB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3EF3-7888-4EBF-B695-84276B4A4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A33A-E1EF-4798-9E65-A9231D2B1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2665-B409-4A43-852D-144DA2539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B6C3-EC67-4226-AD1F-CB1F686B8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0FFC-E0AD-4316-83FD-9E19D09BE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BACC-A36F-40BD-B220-A4C330C27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78A1-B9EC-4148-B000-07B66591E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9F25-19F7-4906-8936-CD7870A8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1312-B8C5-42A5-8E30-9574BA8A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4FD2-956E-4FF8-AA14-ED9C53E2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D3C620-3305-4FBD-A856-249A010D036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