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52242"/>
        <c:axId val="5315677"/>
      </c:barChart>
      <c:catAx>
        <c:axId val="8155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5677"/>
        <c:crosses val="autoZero"/>
        <c:auto val="1"/>
        <c:lblAlgn val="ctr"/>
        <c:lblOffset val="100"/>
        <c:noMultiLvlLbl val="0"/>
      </c:catAx>
      <c:valAx>
        <c:axId val="531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193-4B94-4D54-AF33-ABAF9CF9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366-6D8D-4745-ABF5-0393FF0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C1F-656F-4192-A25F-99B027D0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2CF-D276-4DF4-A59F-8DA77149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9A6-3AAC-4FF7-A90F-16F6E145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94F-3396-42C6-8F32-11850CBA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E56-0D6F-46FF-8A53-CB09B6A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16D-8EB6-4525-8679-D25886F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F0B-4CC1-4802-A700-894CBBE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E17-4CC5-43EB-944D-CD5A648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CDD-0917-4022-9D33-6D77FEC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839-E5F8-4421-8492-CB568B27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EC41-B63F-4550-B64C-2F6EA36FF3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