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19785"/>
        <c:axId val="3299102"/>
      </c:barChart>
      <c:catAx>
        <c:axId val="65419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9102"/>
        <c:crosses val="autoZero"/>
        <c:auto val="1"/>
        <c:lblAlgn val="ctr"/>
        <c:lblOffset val="100"/>
        <c:noMultiLvlLbl val="0"/>
      </c:catAx>
      <c:valAx>
        <c:axId val="3299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9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62C-240D-4FD2-A117-CF092046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016-6B4B-4391-B9F6-669BAB9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B64-3147-4EC2-941B-BDBD969C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630-32E2-4769-ADC4-12C7C733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BC2-225A-40E0-9E2C-F159864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57C-5028-41E6-B480-5940F1F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1C5-F1C7-4BE2-8DD0-66DC612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BAD-4294-429A-962E-B542653D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256-72A7-4DC2-B8B9-753871F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6EB-913B-4293-8A9D-DF41536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1C5-90BF-4FA6-82AA-D233C3D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02C-5621-4B04-81CC-163BA56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41B30-A7CE-4F6C-B3D1-40589809CD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