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3495"/>
        <c:axId val="75867001"/>
      </c:barChart>
      <c:catAx>
        <c:axId val="7463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67001"/>
        <c:crosses val="autoZero"/>
        <c:auto val="1"/>
        <c:lblAlgn val="ctr"/>
        <c:lblOffset val="100"/>
        <c:noMultiLvlLbl val="0"/>
      </c:catAx>
      <c:valAx>
        <c:axId val="75867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3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09B-FD85-4704-B65E-245E75D7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8DD-A0BA-4B4E-8B15-7D84EB60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DD4-5700-4ABF-A843-95F8570C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D3B-A516-467E-9DDF-0CB3FDCC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4DD-A24C-45C8-8DE6-5F7375EC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8D9-33A8-43D7-853A-ED189EA6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E86-968F-4C92-9584-844D49FB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8EB-C892-48BE-9AFA-3A316EA9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1AC-C63F-42A8-8FBD-CF6D7FD4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841-67EB-455C-B058-4B886CE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C6D-CE03-4A1A-B745-28F52A28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A23-718F-4476-9D86-6A7FC37F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69D95-2ACE-4756-BFD9-068D9B648B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