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92139"/>
        <c:axId val="60740276"/>
      </c:barChart>
      <c:catAx>
        <c:axId val="91592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40276"/>
        <c:crosses val="autoZero"/>
        <c:auto val="1"/>
        <c:lblAlgn val="ctr"/>
        <c:lblOffset val="100"/>
        <c:noMultiLvlLbl val="0"/>
      </c:catAx>
      <c:valAx>
        <c:axId val="60740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92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4B9-7EF2-44A1-A110-B67DC738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C16-A8E6-49D9-9D78-18A719FD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A94-EC30-448C-A567-7256E7DA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C3D-DD30-42B4-8976-BA13541B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D5C-1EBC-4312-9605-F38A8B5F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8BA-6127-40D4-875B-47DEB557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7C9-22FC-4E41-8294-2D3A1384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2F3-4D91-43B4-9307-05D2A503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7E6-5A7B-4916-817E-88865FDC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37C-2C41-41A3-B4D7-E3599C01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2E8-8C40-4CB6-807E-095E6F0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F91-AD23-4271-AC2B-93EA8E1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92DD1-C7B2-4394-93BF-C98A5EA296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