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89697"/>
        <c:axId val="43851709"/>
      </c:barChart>
      <c:catAx>
        <c:axId val="63789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51709"/>
        <c:crosses val="autoZero"/>
        <c:auto val="1"/>
        <c:lblAlgn val="ctr"/>
        <c:lblOffset val="100"/>
        <c:noMultiLvlLbl val="0"/>
      </c:catAx>
      <c:valAx>
        <c:axId val="43851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89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C1A6-348C-44CA-9F54-6E7C3D8E4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2573-C25C-49A8-9634-6B65D39C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7763-AB69-49B2-B6FC-06D28E3C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A29-FE6D-4886-A222-116AD638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90B1-7D31-45E0-862F-8BE67394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E86-EE8A-411A-98A4-A983EE0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08C-8E60-4A86-8BFC-1007D31C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363A-083C-4DBF-9E00-1B583F86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069B-9632-463A-AF6A-CD5B25AA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C194-24D0-458B-A993-9CAC7462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DDE4-A83C-4004-8F27-A6CB21E1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8CFF-2DE3-4A42-9610-C4F74BE2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4648B-969B-4714-9C16-C3A99B67CA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